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7D0-9266-47A1-8B5E-DD52C733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856-8786-4812-A256-052B2F87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BA0-C76B-4EB8-848B-13872DE7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936-6D45-4F6A-93A5-5F043DA1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12B-B392-4D55-AFDF-B6FE465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5E4-331B-406B-90B8-72A3588A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FC9-0EB4-4612-B391-40A77B4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7E8-5F94-4E26-9E53-8C2B689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6A0-2AB8-4C3D-90A1-608D217E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2F4-0063-4741-B9D5-4A25D6A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C8B-9551-4DFB-8324-F8623D6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2AD-DF97-4B1A-A988-032788B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FD6-BEEB-4F17-AE09-3DDEC52D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533520"/>
          <a:ext cx="82296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5:12:04Z</dcterms:created>
  <dc:creator>FEMA</dc:creator>
  <dc:description/>
  <dc:language>en-US</dc:language>
  <cp:lastModifiedBy>FEMA</cp:lastModifiedBy>
  <dcterms:modified xsi:type="dcterms:W3CDTF">2002-12-09T15:12:32Z</dcterms:modified>
  <cp:revision>1</cp:revision>
  <dc:subject/>
  <dc:title>PowerPoint Presentation</dc:title>
</cp:coreProperties>
</file>